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9CF5-47DB-4BE8-A077-99EC5280D89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CB68-9608-4E0E-AAC7-32BBB059BDB9}" type="slidenum"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B17-9CD2-4EF1-A1B5-3E47D408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405-E13E-402D-911F-312B3779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7BA-7E1B-43A8-A050-DE6EE467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E27-E261-44DE-A2F0-6465A09E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49F1-CCF3-4CD2-A230-0DED3286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EFBC-8511-4862-B738-CD444D5F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A2AA-3E8C-4EC3-951C-131D43EE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5114-CBEB-49D6-84AA-18C71EEC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BFD5-E653-4355-92FB-9ECF1958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1FDD-E600-492E-9B46-8927EDCA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A33B-57C9-49C6-8329-3A75A92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427-3272-4EEC-902D-BF0FE71A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6D98-BD41-43B4-9DA5-2FC7655E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64E6-E218-4E5C-B6BD-4DB368C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60F6-15B1-42D9-B784-6DE138A3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83F6-2BD4-4DD3-84B9-B24C3601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7380-CBEE-488B-B310-77392D01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769-44E0-4727-A41D-D3EB7F55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B69-0E76-4BF5-8607-2A0DA63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B15-424F-445B-84B5-41CBF877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A55-1241-4487-B2F0-DA842F0D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2CF-3764-46BA-B095-BF7E4490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54C-D647-4353-A1AD-1F9E5ED1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7E7-C6E9-471C-9AFF-7DE57C1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88D-3813-4C68-A121-5DB43BFD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103-D898-4B0F-BE19-BB0A96E58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 Futuro y El Condicional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. Verbos regula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Repase el siguiente esquem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2438280"/>
          <a:ext cx="8458200" cy="34290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0560"/>
                <a:gridCol w="1692360"/>
                <a:gridCol w="1692360"/>
              </a:tblGrid>
              <a:tr h="542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turo                Condi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él/ella/U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sotros(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osotros (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llos/ellas/u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</a:t>
                      </a:r>
                      <a:r>
                        <a:rPr b="0" lang="es-ES_tradnl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é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é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Box 1"/>
          <p:cNvSpPr/>
          <p:nvPr/>
        </p:nvSpPr>
        <p:spPr>
          <a:xfrm>
            <a:off x="2399400" y="601992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dos los verbos del condicional 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n con -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í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4" name="Straight Arrow Connector 5"/>
          <p:cNvCxnSpPr/>
          <p:nvPr/>
        </p:nvCxnSpPr>
        <p:spPr>
          <a:xfrm flipV="1">
            <a:off x="6095520" y="5333760"/>
            <a:ext cx="3819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7"/>
          <p:cNvCxnSpPr/>
          <p:nvPr/>
        </p:nvCxnSpPr>
        <p:spPr>
          <a:xfrm flipV="1">
            <a:off x="6095520" y="5333760"/>
            <a:ext cx="22107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aíz del futuro y del condicional es el infinitivo completo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e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se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/ se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i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vivi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viv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viv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serve que las terminaciones del futuro y condicional son las mismas de los tiempos ya estudiados para todas las personas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mos = nosotros, -s = tú, -n = ellos/ella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7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el futuro todas las personas llevan acento escrito excepto la primera personal plural (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nosotro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: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eremos, iremo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terminación del condicional 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–í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, que es la misma del imperfecto (past) de los verbos e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–er, -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 (La /i/ van con acento escrito en todas las personal para romper el diptong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I.  Verbos irregulares y deriv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ay solamente doce (12) verbos irregulares en el futuro y condicional.  Son irregulares porque pierden la vocal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o la vocal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del infinitivo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–er, -ir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09800" indent="-609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b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0" i="1" lang="es-E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 lugar de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be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; podría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en lugar de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 pode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1009800" indent="-609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ara algunos verbos se añade (add) una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d: vendré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en lugar de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veni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; sald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en lugar de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liría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1009800" indent="-609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quí está la lista complet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50840" y="3618000"/>
            <a:ext cx="37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b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c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c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ci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i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 di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 h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a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 ha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o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po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o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po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937040" y="3594240"/>
            <a:ext cx="32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r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r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 quer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b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s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li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al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sal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n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e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te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al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val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i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e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ve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3014280" y="60958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le agrega una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 flipH="1" flipV="1">
            <a:off x="2590200" y="5333760"/>
            <a:ext cx="61020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serve que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hacer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dec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son los más irregulares, pues pierden una sílaba completa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ci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d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d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hace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ha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ha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verbos compuestos sufren los mismos cambios de los verbos si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pone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pond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mantene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mantend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satisface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atisfa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143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te que los compuestos de decir son regulares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aldec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maldec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 maldec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predeci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predec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bendec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endec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II.  Usos del futuro y condi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 futuro se utiliza para hacer predicciones, y el condicional se usa para hablar de situaciones hipotéticas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EJS:  Este año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tend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ás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dificultades económicas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¡Qué hambre tengo!. Me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come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un bocata de tortilla  pero en el bar solo quedan de jamón y queso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xiste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</a:rPr>
              <a:t>tres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(3) formas diferentes de indicar una acción futura o venidera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ESENTE DE INDICATIVO: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limos mañana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para México</a:t>
            </a:r>
            <a:r>
              <a:rPr b="0" i="1" lang="es-E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(Común en todo el mundo de habla hispana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Ir A + INFINITIVO: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Vamos a salir mañana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para México.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 (Forma más común en Hispanoamérica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ORMAS DEL FUTURO: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ld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emos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mañana para México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(Más común en España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uturo y condicional de probabilid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 futuro se usa también para indicar probabilidad de una acción o estado en el momento actu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J.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José no está aquí. 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Esta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enferm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 condicional se usa para indicar probabilidad de una acción o estado en el pasado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J.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José no vino ayer. 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Esta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enfermo.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condicional se usa como fórmula de cortesía en lugar del presente de indicativo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J.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Quer</a:t>
            </a:r>
            <a:r>
              <a:rPr b="1" i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ablar con el dueñ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condicional se usa para hacer sugerencia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J.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sé que le pasa a Juan. Creo que está enfadado conmi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Yo en tu lugar, hablar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con é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V. FUTURO PERFEC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forma con el futuro del verbo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haber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ás el participio ( habré / habrás…..+ cantado / comido/ vivido).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usa par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formular hipótesis sobre el pasado vinculado con el pres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pe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ha i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ver a Lucía (lo sé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pe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habrá i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ver a Lucía ( lo supong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predecir el pasado del futuro.  Se habla de acciones que estarán terminadas en el momento del futuro del que hablam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añana a las once ya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habré termina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examen de inglé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V. CONDICIONAL COMPUESTO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forma con el condicional del verbo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haber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ás el participio ( habría / habrías…..+ cantado / comido/ vivido). Se usa par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formular hipótesis sobre el pasado del pas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pudo llamar porque l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habías da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número  equivocado (afirm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habrías da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número equivocado y no pudo llam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evocar situaciones hipotéticas o hechos que no tuvieron lugar en el pasado ya que no se dieron las condiciones necesari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habría gusta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Juan me hubiera invitado a la fiesta. ( pero no me invitó y la fiesta ya pas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3:44:24Z</dcterms:created>
  <dc:creator>Alliance For College-Ready Preparation Schools</dc:creator>
  <dc:description/>
  <dc:language>en-US</dc:language>
  <cp:lastModifiedBy>Susana</cp:lastModifiedBy>
  <dcterms:modified xsi:type="dcterms:W3CDTF">2015-04-29T08:09:47Z</dcterms:modified>
  <cp:revision>26</cp:revision>
  <dc:subject/>
  <dc:title>El Futuro y El Condicional </dc:title>
</cp:coreProperties>
</file>